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279-2930-44AB-AAD7-F0F2EB00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773-DB86-4775-AB01-6D7695FC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178-AE6D-4822-AB9D-2E0CC0CF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992-AB18-4857-A493-882B3488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481C-BF62-4C3C-BF61-83136CBD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B531-D111-45C2-BA44-04D152DF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8F31-35D5-4B5E-9EE2-10A6E0DC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131E-B112-4B0B-A18E-115D595C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3145-8792-4DAF-AAD7-55357967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5D5E-800C-49E9-817E-A11A59F1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E4F6-57A9-4188-83E4-144B997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A1F-AE36-4783-B525-0AE07450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2590-6143-4BE8-B14B-79A93805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EA60-5A9B-429A-B1A9-41B34A7E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993E-9F4A-47FF-A8C9-258527ED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ED18-436B-45B0-9A21-68361C4F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46A1-2122-462C-9229-09429F0F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0E2-36AD-45F8-95E1-FD47EB31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3E86-F050-4798-A42B-7E8D1108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04A-05EE-4634-A001-D2854B7E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7CD-B29F-4C5C-AAE7-84B52921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FDE-A0F7-4346-9F6F-062094A5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5E00-3433-4FC3-9B93-35974C14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4A7-148E-4D81-88D0-61B64F5C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B744-97DC-47B5-9B55-5FE11D594ED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0775-02AC-4217-8A99-F7953300C38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 3R4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2743200"/>
            <a:ext cx="6934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om 5C16, Pevensey I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9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60400" y="2597040"/>
          <a:ext cx="7772400" cy="1484280"/>
        </p:xfrm>
        <a:graphic>
          <a:graphicData uri="http://schemas.openxmlformats.org/drawingml/2006/table">
            <a:tbl>
              <a:tblPr/>
              <a:tblGrid>
                <a:gridCol w="1433520"/>
                <a:gridCol w="745920"/>
                <a:gridCol w="1138320"/>
                <a:gridCol w="1136520"/>
                <a:gridCol w="1043280"/>
                <a:gridCol w="1136520"/>
                <a:gridCol w="1138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ling Fac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2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965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057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769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43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/ SF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66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3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4861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65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911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012680" y="4502160"/>
            <a:ext cx="784404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verage value over all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gives us the measure of the fit between the model and an observation seque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v/symbol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0.3667+0.3373+0.4861+0.2653+0.2911 / 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 0.349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2800" y="844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3080" y="2687760"/>
            <a:ext cx="845820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Often expressed as a log value (log likelihood /symbol)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LPS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=  ln (Av/symbol)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= -1.0518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n(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)    = 0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Best possible f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n(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)   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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 f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7200" y="81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6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560" y="24876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 we can use the LLPS measure to “score” observations sequences. The workings are left as a practical exercise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2160" y="3782880"/>
          <a:ext cx="7010280" cy="2038320"/>
        </p:xfrm>
        <a:graphic>
          <a:graphicData uri="http://schemas.openxmlformats.org/drawingml/2006/table">
            <a:tbl>
              <a:tblPr/>
              <a:tblGrid>
                <a:gridCol w="3429000"/>
                <a:gridCol w="1676520"/>
                <a:gridCol w="19047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v / Sym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LP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red,red,red}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62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.338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red,blue,green}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8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.699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blue, green, blue, red}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37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.439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992160" y="6068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B: The sequences do not need to be the same length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53640" y="27194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ilar process to forward evaluation except that instead of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ating to state of model 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 = 0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it refers to the state of the model 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 = 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nd we work our trellis calculations in the other dir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’s see this in action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8880" y="82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14480" y="3102120"/>
          <a:ext cx="3276360" cy="146052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351080" y="4978440"/>
                <a:ext cx="6603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8" name=""/>
          <p:cNvGraphicFramePr/>
          <p:nvPr/>
        </p:nvGraphicFramePr>
        <p:xfrm>
          <a:off x="4923000" y="2757600"/>
          <a:ext cx="3886200" cy="2184120"/>
        </p:xfrm>
        <a:graphic>
          <a:graphicData uri="http://schemas.openxmlformats.org/drawingml/2006/table">
            <a:tbl>
              <a:tblPr/>
              <a:tblGrid>
                <a:gridCol w="1020600"/>
                <a:gridCol w="922320"/>
                <a:gridCol w="971640"/>
                <a:gridCol w="97164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 rot="16200000">
            <a:off x="3817440" y="372168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35480" y="246852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16000" y="5937120"/>
            <a:ext cx="7648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ssume </a:t>
            </a:r>
            <a:r>
              <a:rPr b="0" i="1" lang="en-GB" sz="32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nd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= {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, … , 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T-1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 ,o</a:t>
            </a:r>
            <a:r>
              <a:rPr b="0" i="1" lang="en-GB" sz="32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3200" spc="-1" strike="noStrike">
                <a:solidFill>
                  <a:srgbClr val="003366"/>
                </a:solidFill>
                <a:latin typeface="Times New Roman"/>
              </a:rPr>
              <a:t>}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are given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84080" y="76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43000" y="4483080"/>
          <a:ext cx="2278080" cy="2170080"/>
        </p:xfrm>
        <a:graphic>
          <a:graphicData uri="http://schemas.openxmlformats.org/drawingml/2006/table">
            <a:tbl>
              <a:tblPr/>
              <a:tblGrid>
                <a:gridCol w="1287360"/>
                <a:gridCol w="99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1131840" y="2700360"/>
          <a:ext cx="3276720" cy="1460520"/>
        </p:xfrm>
        <a:graphic>
          <a:graphicData uri="http://schemas.openxmlformats.org/drawingml/2006/table">
            <a:tbl>
              <a:tblPr/>
              <a:tblGrid>
                <a:gridCol w="81900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292720" y="2795760"/>
          <a:ext cx="3276720" cy="1841400"/>
        </p:xfrm>
        <a:graphic>
          <a:graphicData uri="http://schemas.openxmlformats.org/drawingml/2006/table">
            <a:tbl>
              <a:tblPr/>
              <a:tblGrid>
                <a:gridCol w="835200"/>
                <a:gridCol w="803160"/>
                <a:gridCol w="819000"/>
                <a:gridCol w="819360"/>
              </a:tblGrid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 rot="16200000">
            <a:off x="4147560" y="346896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9880" y="246384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22760" y="5214960"/>
            <a:ext cx="502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ime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s a special ca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don’t know the terminal state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0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319040" y="2714760"/>
          <a:ext cx="3170160" cy="1460520"/>
        </p:xfrm>
        <a:graphic>
          <a:graphicData uri="http://schemas.openxmlformats.org/drawingml/2006/table">
            <a:tbl>
              <a:tblPr/>
              <a:tblGrid>
                <a:gridCol w="792000"/>
                <a:gridCol w="793800"/>
                <a:gridCol w="792360"/>
                <a:gridCol w="79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364000" y="2689200"/>
          <a:ext cx="3170160" cy="1587240"/>
        </p:xfrm>
        <a:graphic>
          <a:graphicData uri="http://schemas.openxmlformats.org/drawingml/2006/table">
            <a:tbl>
              <a:tblPr/>
              <a:tblGrid>
                <a:gridCol w="807840"/>
                <a:gridCol w="777960"/>
                <a:gridCol w="792360"/>
                <a:gridCol w="79200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 rot="16200000">
            <a:off x="4268160" y="321804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05400" y="235908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21400" y="6378480"/>
            <a:ext cx="328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GB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{…, o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= green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12680" y="4495680"/>
          <a:ext cx="7569360" cy="1781280"/>
        </p:xfrm>
        <a:graphic>
          <a:graphicData uri="http://schemas.openxmlformats.org/drawingml/2006/table">
            <a:tbl>
              <a:tblPr/>
              <a:tblGrid>
                <a:gridCol w="1062000"/>
                <a:gridCol w="5800680"/>
                <a:gridCol w="706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 = T-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0*0.6*0.1)+(1.00*0.3*0.8)+(1.00*0.1*0.2) =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0*0.1*0.1)+(1.00*0.6*0.8)+(1.00*0.3*0.2) =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.00*0.2*0.1)+(1.00*0.2*0.8)+(1.00*0.6*0.2) =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078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wards evaluation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87400" y="241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calcul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just like forward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 scaling tricks app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do we need it t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bine with forward evaluation to create a technique for learning model parameters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forward-backwards algorithm / Baum Welch learning (next lectu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80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urs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1360" y="269208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vestigating forwards and backwards evaluation and measures of model fi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Need to write code or perform manual calculations, carry out specified experiments and write up a short repo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ue &lt;due date&gt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98400" y="82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kov Models - Semin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0440" y="240480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actical issues in computing a forward evaluation matrix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prior state assum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valuating the fit between a model and observ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s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it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we need it 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9800" y="793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ward evaluation 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From the previous lectu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93880" y="2581200"/>
          <a:ext cx="3276360" cy="1460520"/>
        </p:xfrm>
        <a:graphic>
          <a:graphicData uri="http://schemas.openxmlformats.org/drawingml/2006/table">
            <a:tbl>
              <a:tblPr/>
              <a:tblGrid>
                <a:gridCol w="818640"/>
                <a:gridCol w="819360"/>
                <a:gridCol w="819000"/>
                <a:gridCol w="81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372280" y="2565360"/>
          <a:ext cx="3276360" cy="1684080"/>
        </p:xfrm>
        <a:graphic>
          <a:graphicData uri="http://schemas.openxmlformats.org/drawingml/2006/table">
            <a:tbl>
              <a:tblPr/>
              <a:tblGrid>
                <a:gridCol w="834840"/>
                <a:gridCol w="803520"/>
                <a:gridCol w="819000"/>
                <a:gridCol w="819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lu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 rot="16200000">
            <a:off x="4320360" y="3176640"/>
            <a:ext cx="16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hidden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6480" y="2239920"/>
            <a:ext cx="21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observable sta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2920" y="6391440"/>
            <a:ext cx="400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{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red,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= green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51040" y="4335480"/>
          <a:ext cx="8008920" cy="2019240"/>
        </p:xfrm>
        <a:graphic>
          <a:graphicData uri="http://schemas.openxmlformats.org/drawingml/2006/table">
            <a:tbl>
              <a:tblPr/>
              <a:tblGrid>
                <a:gridCol w="1054080"/>
                <a:gridCol w="478080"/>
                <a:gridCol w="766800"/>
                <a:gridCol w="5709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6) + (0.00*0.1) + (0.00*0.2)} * 0.1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3) + (0.00*0.6) + (0.00*0.2)} * 0.8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9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(0.80*0.1) + (0.00*0.3) + (0.00*0.6)} * 0.2 = </a:t>
                      </a:r>
                      <a:r>
                        <a:rPr b="1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6960" y="810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rior state of the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898640" y="2460600"/>
          <a:ext cx="1960560" cy="1950840"/>
        </p:xfrm>
        <a:graphic>
          <a:graphicData uri="http://schemas.openxmlformats.org/drawingml/2006/table">
            <a:tbl>
              <a:tblPr/>
              <a:tblGrid>
                <a:gridCol w="1162080"/>
                <a:gridCol w="79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1098720" y="4500720"/>
            <a:ext cx="732924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at’s OK if we know the hidden structure of our model and what state it was in at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 = 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, but this is not always the case. If we have no other prior knowledge we assume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uniform prior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at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t = 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= {1/N,1/N,1/N}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here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s # of hidden stat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64840" y="3243240"/>
            <a:ext cx="27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re </a:t>
            </a:r>
            <a:r>
              <a:rPr b="1" i="1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= {1,0,0}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5400" y="84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aling (1) : Arithmetic underfl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28800" y="2576520"/>
          <a:ext cx="7696080" cy="2081160"/>
        </p:xfrm>
        <a:graphic>
          <a:graphicData uri="http://schemas.openxmlformats.org/drawingml/2006/table">
            <a:tbl>
              <a:tblPr/>
              <a:tblGrid>
                <a:gridCol w="1419120"/>
                <a:gridCol w="739800"/>
                <a:gridCol w="1126800"/>
                <a:gridCol w="1124280"/>
                <a:gridCol w="1033200"/>
                <a:gridCol w="1125720"/>
                <a:gridCol w="112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66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7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2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0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25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33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90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50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3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05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667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5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7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19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1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259640" y="4724280"/>
            <a:ext cx="723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{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red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= green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green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 = blue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= red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9960" y="571500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Problem: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co-efficients </a:t>
            </a:r>
            <a:r>
              <a:rPr b="0" i="1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 0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geometrically as </a:t>
            </a:r>
            <a:r>
              <a:rPr b="0" i="1" lang="en-GB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 increases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</a:rPr>
              <a:t>For long sequences this can give rise to arithmetic underflo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4480" y="8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aling (2)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46000" y="2478240"/>
          <a:ext cx="7971120" cy="2665440"/>
        </p:xfrm>
        <a:graphic>
          <a:graphicData uri="http://schemas.openxmlformats.org/drawingml/2006/table">
            <a:tbl>
              <a:tblPr/>
              <a:tblGrid>
                <a:gridCol w="1470240"/>
                <a:gridCol w="765000"/>
                <a:gridCol w="1166760"/>
                <a:gridCol w="1167120"/>
                <a:gridCol w="1069920"/>
                <a:gridCol w="1164960"/>
                <a:gridCol w="1167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nn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2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429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37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49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484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909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33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352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02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98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/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81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24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27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476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3534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ling Fac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2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965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057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769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43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480680" y="5305320"/>
            <a:ext cx="69274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Times New Roman"/>
              </a:rPr>
              <a:t>Solution: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 Normalise each column so that it sums to 1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before continuing onto the next column of the forward evaluatio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Each column then has a scaling factor </a:t>
            </a:r>
            <a:r>
              <a:rPr b="0" i="1" lang="en-GB" sz="2000" spc="-1" strike="noStrike">
                <a:solidFill>
                  <a:srgbClr val="003366"/>
                </a:solidFill>
                <a:latin typeface="Times New Roman"/>
              </a:rPr>
              <a:t>SF</a:t>
            </a:r>
            <a:r>
              <a:rPr b="0" i="1" lang="en-GB" sz="20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</a:rPr>
              <a:t>Need to think about what this means for the probability values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5000" y="81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61480" y="286524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iven any HMM </a:t>
            </a:r>
            <a:r>
              <a:rPr b="1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, A, B),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want to be able to measure how well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describes an arbitrary observation sequence </a:t>
            </a:r>
            <a:r>
              <a:rPr b="1" i="1" lang="en-GB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rward evaluation is the mechanism, but what is the quantative measur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ikelihood per symb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23960" y="84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090880" y="2521080"/>
                <a:ext cx="53514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47880" y="3511440"/>
            <a:ext cx="79246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i.e. the probability associated with any discrete observation symbol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is the sum of the trellis column at time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52920" y="5187960"/>
            <a:ext cx="6813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) gives us a measure of how the model fit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on account of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o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82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ng the fit between a model and observed data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20600" y="2676600"/>
          <a:ext cx="7559640" cy="952560"/>
        </p:xfrm>
        <a:graphic>
          <a:graphicData uri="http://schemas.openxmlformats.org/drawingml/2006/table">
            <a:tbl>
              <a:tblPr/>
              <a:tblGrid>
                <a:gridCol w="1393920"/>
                <a:gridCol w="726840"/>
                <a:gridCol w="1106640"/>
                <a:gridCol w="1101600"/>
                <a:gridCol w="1019160"/>
                <a:gridCol w="1105200"/>
                <a:gridCol w="1106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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=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caling Facto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273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965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0570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769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4348</a:t>
                      </a:r>
                      <a:endParaRPr b="0" lang="en-US" sz="19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1155600" y="3895560"/>
            <a:ext cx="794232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Likelihood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 = 1 / SF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gives us a measure of fit between o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and the model </a:t>
            </a:r>
            <a:r>
              <a:rPr b="1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assuming normalisation at step 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t-1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, I.e. that all steps have equal importa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 = 1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Best possible f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L</a:t>
            </a:r>
            <a:r>
              <a:rPr b="0" i="1" lang="en-GB" sz="2800" spc="-1" strike="noStrike" baseline="-25000">
                <a:solidFill>
                  <a:srgbClr val="003366"/>
                </a:solidFill>
                <a:latin typeface="Times New Roman"/>
              </a:rPr>
              <a:t>t </a:t>
            </a:r>
            <a:r>
              <a:rPr b="0" i="1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003366"/>
                </a:solidFill>
                <a:latin typeface="Times New Roman"/>
              </a:rPr>
              <a:t> 0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No f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1:01:03Z</dcterms:created>
  <dc:creator>Sage</dc:creator>
  <dc:description/>
  <dc:language>en-US</dc:language>
  <cp:lastModifiedBy>Sage</cp:lastModifiedBy>
  <dcterms:modified xsi:type="dcterms:W3CDTF">2005-03-08T16:26:19Z</dcterms:modified>
  <cp:revision>36</cp:revision>
  <dc:subject/>
  <dc:title>Markov Models - Seminar</dc:title>
</cp:coreProperties>
</file>